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B0895-FF6B-45EE-A8D0-56F3F0238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D60D7-A7D8-4DE9-B9DA-E530268DC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8E433-6D68-49E6-9890-6EB567C8E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1F541-30CB-4592-B56F-C764B7215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126B3-3152-4D00-8844-8A3559E4A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DEF63-D944-4C28-A0DA-D579B9DAD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F0098-2314-42FC-A1AE-61FEBF1DE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46381-354B-4CD0-ABF3-FC9400BA7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6AFDE-AF78-4638-93C5-2956FA62D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D400F-EBDE-4EEE-9E1B-77CADF5F2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2649E-C53E-416C-A395-280E2C3E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F7B2E-B905-43FB-A22E-F197A5657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48F32-317F-46AE-B4BA-763A7EE03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F6516-80BF-4BF8-8511-7508DEC99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C5DFA-BA52-4707-A860-8C350F736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0C773-C24A-4836-A845-465CF28F5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D8E41-B146-4978-9B6A-2364E8CEF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0ED84-8EA2-43D2-B3AD-792DD6F48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CD9CB-EA82-4E51-A858-EDDADACDC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B457B-B825-4ACB-AC2E-0A12FF733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919D3-3F79-4A42-8F56-30C27F4C5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8A4BC-A6C7-4137-8D59-2A25D2244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0B66C-A9D6-4AD1-A4B5-FF3D58E7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4FBEA-F95A-474D-9078-FEB52FE1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FC210-FF04-41C5-9F11-E22115FFA3A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25747-340C-42F7-A76C-DB133D647F3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Prietena mea cartea 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rtea</a:t>
            </a:r>
            <a:r>
              <a:rPr b="0" lang="ro-RO" sz="3200" spc="-1" strike="noStrike">
                <a:solidFill>
                  <a:srgbClr val="ffffff"/>
                </a:solidFill>
                <a:latin typeface="Garamond"/>
              </a:rPr>
              <a:t> călător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in mileni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curt</a:t>
            </a:r>
            <a:r>
              <a:rPr b="1" lang="ro-RO" sz="4400" spc="-1" strike="noStrike">
                <a:solidFill>
                  <a:srgbClr val="e5e5ff"/>
                </a:solidFill>
                <a:latin typeface="Garamond"/>
              </a:rPr>
              <a:t>ă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istorie a tiparului </a:t>
            </a:r>
            <a:r>
              <a:rPr b="1" lang="ro-RO" sz="4400" spc="-1" strike="noStrike">
                <a:solidFill>
                  <a:srgbClr val="e5e5ff"/>
                </a:solidFill>
                <a:latin typeface="Garamond"/>
              </a:rPr>
              <a:t>î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n dat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Garamond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menii au sim</a:t>
            </a:r>
            <a:r>
              <a:rPr b="0" lang="ro-RO" sz="3200" spc="-1" strike="noStrike">
                <a:solidFill>
                  <a:srgbClr val="ffffff"/>
                </a:solidFill>
                <a:latin typeface="Garamond"/>
              </a:rPr>
              <a:t>ţ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t mereu nevoia de a comunica </a:t>
            </a:r>
            <a:r>
              <a:rPr b="0" lang="ro-RO" sz="3200" spc="-1" strike="noStrike">
                <a:solidFill>
                  <a:srgbClr val="ffffff"/>
                </a:solidFill>
                <a:latin typeface="Garamond"/>
              </a:rPr>
              <a:t>ş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 de a avea informa</a:t>
            </a:r>
            <a:r>
              <a:rPr b="0" lang="ro-RO" sz="3200" spc="-1" strike="noStrike">
                <a:solidFill>
                  <a:srgbClr val="ffffff"/>
                </a:solidFill>
                <a:latin typeface="Garamond"/>
              </a:rPr>
              <a:t>ţ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ile stocate astfel </a:t>
            </a:r>
            <a:r>
              <a:rPr b="0" lang="ro-RO" sz="3200" spc="-1" strike="noStrike">
                <a:solidFill>
                  <a:srgbClr val="ffffff"/>
                </a:solidFill>
                <a:latin typeface="Garamond"/>
              </a:rPr>
              <a:t>î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c</a:t>
            </a:r>
            <a:r>
              <a:rPr b="0" lang="ro-RO" sz="3200" spc="-1" strike="noStrike">
                <a:solidFill>
                  <a:srgbClr val="ffffff"/>
                </a:solidFill>
                <a:latin typeface="Garamond"/>
              </a:rPr>
              <a:t>â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 s</a:t>
            </a:r>
            <a:r>
              <a:rPr b="0" lang="ro-RO" sz="3200" spc="-1" strike="noStrike">
                <a:solidFill>
                  <a:srgbClr val="ffffff"/>
                </a:solidFill>
                <a:latin typeface="Garamond"/>
              </a:rPr>
              <a:t>ă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le poat</a:t>
            </a:r>
            <a:r>
              <a:rPr b="0" lang="ro-RO" sz="3200" spc="-1" strike="noStrike">
                <a:solidFill>
                  <a:srgbClr val="ffffff"/>
                </a:solidFill>
                <a:latin typeface="Garamond"/>
              </a:rPr>
              <a:t>ă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folosi </a:t>
            </a:r>
            <a:r>
              <a:rPr b="0" lang="ro-RO" sz="3200" spc="-1" strike="noStrike">
                <a:solidFill>
                  <a:srgbClr val="ffffff"/>
                </a:solidFill>
                <a:latin typeface="Garamond"/>
              </a:rPr>
              <a:t>ş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 s</a:t>
            </a:r>
            <a:r>
              <a:rPr b="0" lang="ro-RO" sz="3200" spc="-1" strike="noStrike">
                <a:solidFill>
                  <a:srgbClr val="ffffff"/>
                </a:solidFill>
                <a:latin typeface="Garamond"/>
              </a:rPr>
              <a:t>ă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le poat</a:t>
            </a:r>
            <a:r>
              <a:rPr b="0" lang="ro-RO" sz="3200" spc="-1" strike="noStrike">
                <a:solidFill>
                  <a:srgbClr val="ffffff"/>
                </a:solidFill>
                <a:latin typeface="Garamond"/>
              </a:rPr>
              <a:t>ă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mite genera</a:t>
            </a:r>
            <a:r>
              <a:rPr b="0" lang="ro-RO" sz="3200" spc="-1" strike="noStrike">
                <a:solidFill>
                  <a:srgbClr val="ffffff"/>
                </a:solidFill>
                <a:latin typeface="Garamond"/>
              </a:rPr>
              <a:t>ţ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ilor urm</a:t>
            </a:r>
            <a:r>
              <a:rPr b="0" lang="ro-RO" sz="3200" spc="-1" strike="noStrike">
                <a:solidFill>
                  <a:srgbClr val="ffffff"/>
                </a:solidFill>
                <a:latin typeface="Garamond"/>
              </a:rPr>
              <a:t>ă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ar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prox. 594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 – Chinezii incep sa practice tiparul de pe un relief in negativ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e5e5ff"/>
                </a:solidFill>
                <a:latin typeface="Garamond"/>
              </a:rPr>
              <a:t>Ştiaţi că..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prox. 700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  – Primul ziar tiparit in Beijing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prox. 868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 – In China se tipareste prima carte. “Diamond Sutra” era tiparita pe matri</a:t>
            </a: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ţ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 de lemn </a:t>
            </a: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ş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 avea pe langa text </a:t>
            </a: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ş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 ilustra</a:t>
            </a: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ţ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i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prox. 1041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 – Bi Sheng, un tipograf chinez, inventeaz</a:t>
            </a: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ă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litera mobil</a:t>
            </a: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ă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prox. 1230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 – C</a:t>
            </a: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ă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ţ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le sunt tip</a:t>
            </a: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ă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ite in Corea, folosindu</a:t>
            </a: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-se litere mobile din metal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prox. 1400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 – Tehnica tiparului pe blocuri de lemn ajunge in Europa din Asia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prox. 1450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 – Johannes Gutenberg a adaptat presa de tipar cu </a:t>
            </a: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ş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rub, bazandu-se pe metoda pres</a:t>
            </a: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ă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i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04000" y="189000"/>
            <a:ext cx="17287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e5e5ff"/>
                </a:solidFill>
                <a:latin typeface="Garamond"/>
              </a:rPr>
              <a:t>Ştiaţi că ..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Garamond"/>
              </a:rPr>
              <a:t>de la 1500 încoace peste 9  milioane de cărţi au fost puse in circulaţie( nu este vorba de tiraj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Garamond"/>
              </a:rPr>
              <a:t>1500 prima tipăritură in ţara noastră călugărul Macarie –primul tipograf româ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Garamond"/>
              </a:rPr>
              <a:t>după 1980 împreună cu dezvoltarea tehnologiei s-au diversificat şi fabricarea cărţilor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06:20:58Z</dcterms:created>
  <dc:creator>cursant</dc:creator>
  <dc:description/>
  <dc:language>en-US</dc:language>
  <cp:lastModifiedBy>cursant</cp:lastModifiedBy>
  <dcterms:modified xsi:type="dcterms:W3CDTF">2010-09-02T08:56:46Z</dcterms:modified>
  <cp:revision>3</cp:revision>
  <dc:subject/>
  <dc:title>Prietena mea cartea </dc:title>
</cp:coreProperties>
</file>